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glass.wav" ContentType="audio/x-wav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331D-F9A0-4F96-8387-C06260B7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2EB7-F118-41D3-8695-EE454A75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898C-38B2-498C-A69A-AE58B2903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316A-6A09-44ED-9A7A-CCBA10ECA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9AD3-C4E1-49A3-9A83-795B827D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970B-A587-4842-9B07-338E2695F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09AA-CC35-4E7D-AA95-44B7F1C4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3601-5D03-43DA-B72F-85A96D529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218-CA33-446B-8170-F2811CEB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1EBF-6E95-4973-9C8B-9E94AF37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E6A3-5253-4C1E-92B8-FCD1C0A56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82C7-682A-4CF2-BE68-72392A5D7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01EE-E72C-4610-8A10-8F49AB95DC5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F7F5-63BD-49C8-A030-D223C227E4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las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60360" y="201600"/>
            <a:ext cx="599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U.N.A.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Facultad de Contaduría y Administ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2360" y="2249640"/>
            <a:ext cx="67888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ción del  Iceberg de la Ignoranci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mpiendo Paradigm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“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powerment “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rendiendo a que los empleados dirijan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“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vuelo del bufalo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44240" y="5653080"/>
            <a:ext cx="325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aboro : Jaime G.Sanchez 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98AA-533D-4103-BF43-47A18CC44F02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92038-3958-45FA-8FCF-1A2F0C9501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8229600" cy="5486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6200" y="318960"/>
            <a:ext cx="411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Que es un Iceberg............¡...............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4155-D1B7-4F63-91ED-7B9C24C2374B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7924F-6274-47D1-93B4-3786D0B7F90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76720" y="1395360"/>
            <a:ext cx="5676840" cy="4853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3520" y="76320"/>
            <a:ext cx="8001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Times New Roman"/>
              </a:rPr>
              <a:t>EL ICEBERG DE LA IGNORANCIA.!En  la 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toma de decisiones ¡</a:t>
            </a:r>
            <a:r>
              <a:rPr b="0" i="1" lang="es-MX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! El Potencial del conocimiento de un Problema Operativo... ¡ ¿Hoy quien toma las decisiones  al presentarse un problema .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-2160" y="1889280"/>
            <a:ext cx="227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a Alta Gerenc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2575080"/>
            <a:ext cx="223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erencia media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360" y="33526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vel Supervisió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4160" y="4251240"/>
            <a:ext cx="21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ivel Opera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71600" y="19051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2590920"/>
            <a:ext cx="92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30120" y="33368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74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08320" y="323064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360" y="425124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. ( 99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0401-E372-447D-91B5-4706AC154A48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D2F25A-52B8-44A9-B5EC-9BCD77695C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60400" y="1219320"/>
            <a:ext cx="7421760" cy="3708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433520" y="304920"/>
            <a:ext cx="62784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600" spc="-1" strike="noStrike">
                <a:solidFill>
                  <a:srgbClr val="000000"/>
                </a:solidFill>
                <a:latin typeface="Times New Roman"/>
              </a:rPr>
              <a:t>Entender las Expectativas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22880" y="5211720"/>
            <a:ext cx="76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cc"/>
                </a:solidFill>
                <a:latin typeface="Arial"/>
              </a:rPr>
              <a:t>¡Uno solo no puede con toda la carga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3DF-7DDE-45AA-93F8-1845984D0DA0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E57157-B3A5-4628-BF72-847ACDCE65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143000" y="2286000"/>
            <a:ext cx="66294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Gracias,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r su atención y confianz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86000" y="501480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chez C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jsanchez43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F3A0-6B56-4F36-B950-DA2C714BF012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A2291C-D980-4042-95AA-6F43D95955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3T21:00:01Z</dcterms:created>
  <dc:creator>Sanchez Carrillo Jaime</dc:creator>
  <dc:description/>
  <dc:language>en-US</dc:language>
  <cp:lastModifiedBy> Jaime G.Sanchez C.</cp:lastModifiedBy>
  <dcterms:modified xsi:type="dcterms:W3CDTF">2006-02-22T21:14:20Z</dcterms:modified>
  <cp:revision>15</cp:revision>
  <dc:subject/>
  <dc:title>Presentación de PowerPoint</dc:title>
</cp:coreProperties>
</file>